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2C0-031C-4826-BF02-2BF02298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C73-4F4F-4481-8700-14E52A45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E31-C57E-4BCB-AE5C-177B74F6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B61-B154-4BE6-992E-1F765303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4EEEB-4965-4E29-B4D4-A2874650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80216-4100-48BC-961A-4481AF02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A066C-8F5E-4CCE-8185-3941A99B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4B1D4-1BD4-4D19-B4E6-C2E7312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3F265-0DAA-4820-B0A2-42A52DE3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E043E-BDD7-4CD1-B4F6-E2F0CF1C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8C084-ACA3-40A1-9427-63ABB65C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703-C6B2-4856-82B2-114C618A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D9D40-F4DD-44F0-BC23-D639B4DB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6C029-6B4F-4CD6-B7C8-A8DA707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9C3DE-CAE1-497B-8105-70614D5B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2D1C8-3DAC-48B2-B847-C2B2BC67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B605C-5D34-49CB-876A-2134D828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39E-092C-4615-A74C-DF85C0AB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F1E-AD51-4943-B015-10635AC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426-E39A-4247-AEF4-F1917FAD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6F5-4729-4EF9-A279-753D1264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B87-95B1-4ABA-8A8D-4AC3A482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380-5624-4011-9AD4-05B3D3F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D49-4810-4B5D-824E-2FAA5925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0F41-ED5E-40FC-AD0A-2EFF8F41F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72DA-FC69-4CAB-AE92-C1B955AF3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формационна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льтура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 – не владею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- плохо владею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– владею на среднем уровн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-  хорошо владе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435880" cy="4629240"/>
        </p:xfrm>
        <a:graphic>
          <a:graphicData uri="http://schemas.openxmlformats.org/drawingml/2006/table">
            <a:tbl>
              <a:tblPr/>
              <a:tblGrid>
                <a:gridCol w="4254480"/>
                <a:gridCol w="1228680"/>
                <a:gridCol w="1152720"/>
                <a:gridCol w="934920"/>
                <a:gridCol w="865080"/>
              </a:tblGrid>
              <a:tr h="16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менова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ш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ов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е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хрян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ш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кова В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В навыках пользования различными техническими устройствами – от телефона до ПК и К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В способности владеть информационными технологиям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 умении извлекать информацию из электронных коммуникац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В умении представить информации в понятном виде и правильно её использовать с максимальным эффект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В знании различных методов обработки информац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В умении работать с разными видами информац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(67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(61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(61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(56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щиеся нашей группы владеют информационной культурой на среднем уровне. В связи с переходом к информационному обществу к общей культуре человека добавилась еще одна категория – информационная. Поэтому на уроках информатики мы как раз и будем формировать и повышать уровень информационной культу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ультура человека определя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ниями, умениями, профессиональными навы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внем интеллектуального, эстетического и нравственного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собами и формами взаимного общения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ичная культура человека определя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внем его умственного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арактером его профессиональной и твор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значит, что чем больше человек развивает свои умственные способности, чем больше он думает, размышляет, тем больше повышается уровень его личной культуры, и человек, занимающийся искусством или наукой должен иметь очень высокий уровень культуры, что совсем не обязательно для человека физического т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ставим себе человека, владеющего информационной культу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42940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формационная культура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умение целенаправленно работать с информацией и использовать для её получения, обработки и передачи компьютерную информационную технологию, современные технические средства и мет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связи с этим ИК человека должна проявляться в следующе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В навыках использования различными техническими устройствами – от телефона до ПК и К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В способности владеть информационными технолог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В умении извлекать информацию из электронных коммуника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В умении представить информацию в понятном виде и правильно её использовать с максимальным эффек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В знании различных методов обработки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В умении работать с разными видами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дём исследов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кой степени каждый из нас соответствует образу человека, владеющего информационной культур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23:35:22Z</dcterms:created>
  <dc:creator>Челядина</dc:creator>
  <dc:description/>
  <dc:language>en-US</dc:language>
  <cp:lastModifiedBy>Челядина</cp:lastModifiedBy>
  <dcterms:modified xsi:type="dcterms:W3CDTF">2009-05-02T01:38:41Z</dcterms:modified>
  <cp:revision>2</cp:revision>
  <dc:subject/>
  <dc:title>Информационная </dc:title>
</cp:coreProperties>
</file>